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FB5D-E716-4FD6-9C8D-10FBD2A3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8991-93E7-468B-B399-9A28039F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D9B9D-CC37-4A65-9C4E-85AB737D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9318A-E2C0-48BE-BDF8-734AB6ED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B02F5-EE83-4572-9D23-BECE425A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1E87E-5891-40BD-B34D-1B82709F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56BE5-4F41-4D24-9FED-BF18978A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34723-4001-4AD2-B7A8-978AAF68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19947-89CD-41F7-9568-22BD1A77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467B5-57D9-4955-8C14-70D36F7E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C2069-AE0D-48B3-997C-EB29C880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B30A1-16A0-4B22-AB15-B5F7F29E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37D0-3A89-4ACE-803C-8C635567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E4A46-0360-4098-B203-6ABF9288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D12D3-DCBD-4CC6-BB97-EB378195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439D1-B9E5-41EE-B9E2-DBC4DE92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14444-902E-40BE-A8D4-E439093F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AEDAB-83F7-478F-95FC-A291D5AF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5A869-72B6-4104-92C7-898D108A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B69B7-4B4C-46AC-887C-0ADBECAE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907B5-99D6-42D8-B578-B7B32099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B7C1E-7453-4B07-BDD0-51F54547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64055-0608-44DB-BE9B-EEDF9FF6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3E66-1BBC-4047-9102-BFEBCE60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DBB23-F39A-4A7A-AF93-B0863AE1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44BFE-6ED7-47F9-AD8C-48E5D0BF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C25DC-AAC3-44E2-A3EE-A46B7F3F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E66B5-D237-41E2-852F-2B0B6FA2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B6F3B-677A-4607-B050-B8E77306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E1F84-EAE9-4157-836F-953FAB3C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62DE2-427C-4655-96F5-2E34C5EC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36B2E-6D23-4889-8282-91E003FB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49985-5B79-48F3-BF09-F524EEEE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57C5F-4F28-4549-8819-0DDF1909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330B-6804-4533-BEE7-BF2BEC0F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0C9C0-0CBA-4B29-A55D-76B35F6D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06B06-9F9E-4B18-B88D-CB68A445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19C22-B1E0-46BD-A19D-F38786D4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0C893-DFFE-4706-9BF6-F4D915DF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07A93-E771-4C35-B084-0842A93E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858AE-CA09-4E51-9134-BE4CF6F4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D7338-8D89-4CEA-9862-8A353D87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57272-5A5E-4AAD-8716-35496B8F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D527F-D784-4B70-8C06-2DF5689B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854BA-B0B6-48D0-ADF7-6FC20A79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3C55-413F-4902-A78C-CE036E85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46ECE-D9BD-4E45-BEE9-9561AFCF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50060-0C36-4872-BCDE-0D41F19A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95E6C-FD08-46DF-BBBB-44E25A82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15797-22F7-419D-8AAB-FBCEB1B8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2D179-0A55-4EE3-8FD7-FC20A33F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63E7E6-6A24-458E-B300-FFF34DE7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D4F38-D482-4C20-8309-829E8B21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52D64E-DDB5-4F1C-B748-B133A513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133B45-FDCC-4666-9860-928D7015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0BE285-9D40-4505-890B-FA3788B8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CE5A-A486-4F60-BAA7-DCD5F0EB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0201FE-FA32-4FA4-A786-B0EE3ADF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CA6024-04E1-46E5-B7B8-68FF4278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2D302D-8B91-4943-AC31-0AB1F131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AD417E-9F31-48F2-85CD-8D4F1183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16E24-385F-4F38-88DB-11365A0C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09CCB8-2744-4D8D-85F2-DAF7DBB7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F3E6D5-0CFB-4F12-B2FB-40542D0D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581186-EB6F-4F46-9E6E-80FB8960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7A6099-F08E-4FC9-98BA-CB79635E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CF496A-A469-492C-A5E8-85BDC2A0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5532-83FB-4AEA-A203-190C147F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330F49-E3CA-41C4-B50D-C296F8B6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0853AA-EC9B-4F92-94D0-0B118711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5CEB12-8965-42D6-B58D-4E6DE19C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3042A5-999D-42A0-BD10-50194DA3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E40E8F-E9A2-4984-ABC4-082E61B7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ACD5B4-78C2-475D-ABDB-635494DC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BA302B-1286-41B6-93A1-E3C42BA9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50BB9D-D9A9-467C-B5DB-1F3CE892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ADCFB8-F9AB-409E-AC34-1A29F2CD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2C07E5-1FD9-462E-8F09-BC7CB1AA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6EB5-CED0-43A3-8A39-F198F930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924453-9208-450B-8896-C02E4B84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E61347-4C76-4454-8B0E-D462E438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4109B0-7CB8-4157-8715-344608BB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974E20-CE46-41B5-9B0B-B69F3AEB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808814-47ED-4CCF-87F5-AE5B491F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AFC9C7-6C80-4426-9FC5-E2B1ED65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C4DB81-AFE9-4384-9CAF-151E0956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545DD0-BA52-4CD2-B3E2-8AAA306A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E9AA21-AA5C-48BC-9CF2-80ECA14A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CE087E-7E65-469E-92E4-2458668F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E8F6-AB46-4413-9C9C-F3210ED3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2C1FB9-A836-47C7-ABF8-B07D7E83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0F1BDB-7777-4E0D-AF59-4C7C9628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022635-9A77-4C7D-BFE0-B405EEBE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512CB7-EB1C-4502-A65D-F84BC8F4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2FBE58-D732-4B1A-BFE9-46545C45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FA870A-707E-4B17-AFE4-83A2B99F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BF3C94-9B1E-4754-97E2-555F2BFF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825708-96A9-4CD6-BFE5-38F9728D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6C0D4E-BF82-4834-9E55-3F2472F5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C6C1A1-2706-46B0-9535-FC00E52C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1F3D-F7C5-4419-A401-2146C9CE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EAD20C-26E1-4BC1-8F41-69991785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CDDEA4-008A-43F0-A6BA-553639AC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35C112-EFA0-42DB-A2E9-6E08B07E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7541F4-DB37-4016-9213-9A873873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F7417B-00EF-4311-B31C-62968409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6EFF57-D8E8-4001-B370-EE245C5F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E75019-E073-490E-A798-0701116A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A4F4FC-4349-49F3-9D21-7413F95D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BE1DBF-660F-47AD-BE8D-ECCA0391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C50D61-721F-4B83-B027-496BB0A1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5A00-7653-46F3-B7ED-71D3A79B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C21B-0F6C-4FD9-9F99-09819EA3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686D02-4CE5-41D6-8755-18DFA4C0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C6B2B0-FF8A-49FB-BCB5-F20B8C56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C4D72D-1EFA-4B47-9878-F24664A1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FD6163-6906-4879-AD14-FA34ED69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1C4F93-2C02-4305-B432-BBDA5B4D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7DC33F-5565-4B41-A6C0-549C6EF9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C4A4D9-89EE-4AB4-8C72-3B163258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21FE8D-2E7E-4264-9A3C-6C6B13EA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5F381B-2612-42EE-AE17-180A1113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6D901D-04F7-451C-B1E1-3FAF8F84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52E0-C4DA-4EA8-A195-7CA318CB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DAE72D-1214-4708-AB76-DB14159C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B16E02-FE80-4A8F-9507-9D21BC80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388A90-6815-4281-B07D-3BD1728C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F39814-938C-4881-B3EA-838AD94E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511177-4536-446B-8ED1-6C32F537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2E3A5E-8B4F-4E33-A2B0-307FB65F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7A5A1C-FC9B-4DD5-8A63-D5D84578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A7ADDD-96CD-41D5-A409-E10FFC54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70C3B6-9B5C-463C-B79E-163B0B80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3992AF-43BF-48CB-A72B-7C090A00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750D-4167-4EC9-96CA-ADDF9DCF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C7A888-108C-4B18-84A2-0D946813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932D1A-84C9-4344-ADC2-18C947E4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1B8D94-861B-4039-82BA-EFB41536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371BC7-7484-4E24-82C0-AB5CAD17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EB77E8-6B4B-4F03-B5D3-EB8992D7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A9CC59-ECF0-47EC-B167-192DE0DD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E90AF1-2D76-46A6-AB59-B6905A50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44AC65-9C46-4835-A27D-8DD95E66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09FC43-57DC-435E-BC9A-709A0EAC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E6EDF3-BC98-435B-82EA-6D5D930E9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DD2D-DB7C-45CC-9989-DFC958F3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D855D0-2E47-480F-A930-99FF02A6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EE9EFC-C6E8-4695-9299-558C7CCB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AAF38A-FBAA-4171-995E-72B08D48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79C095-28CB-4920-8D20-61180E1F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A9D561-ECC8-46CC-B5B8-56187804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E3B1BC-F225-4605-911B-B9FA8556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3AAE26-1B44-4A31-9230-1EF6E45C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D90868-77F8-4243-A136-276F5C70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828F26-8449-4F55-8381-8468121F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7B4915-1DE7-41C0-9DC6-228585E4A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29C2-A119-47BE-8ED2-54930D47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AFD49B-27F0-40E1-B232-BDBADF44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B6FAB7-362D-4FA2-A92D-971971FB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D1E40D-FBBA-4B26-9BB8-4648556B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E0C1B2-0A4E-4071-87E9-64EE7E41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754C41-25DF-4C4C-BBF5-3E577FB7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EAD3FC-676D-4F0C-B760-33C855AC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6C6AC8-48D8-4625-A035-389AF69E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620E0E-C257-4863-A66A-9B006652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43CF8B-2CC9-4C31-A32D-876246D5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0762D2-07F2-42A7-83A6-77E515BB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8A9F6-10BD-41CD-841B-8C7DFF4B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1FAD13-3B37-4F08-B346-97808A1E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D16AB3-1EBC-478A-B382-07D55231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B3AE58-93E6-43C8-A9E2-CA0010E9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A67AA-B5D6-4F3D-811C-1C52D112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DE62B-E6EB-4628-A2E4-05242943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29B99-D8F1-4ED9-9CD7-9E2057A1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EEF82-D15A-4642-8CD7-F0800871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0536-4827-4266-9895-F67FDA61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9BC4F-3BDF-4386-A9F1-54D02631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5C726-AEC3-4927-91FB-4397B7EF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1B42E-7F2B-43FE-A18E-2C541FC3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DDD28-A62A-4E25-B90A-744E08DE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EA0FE-67F0-44CC-81C3-F9F5FC61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9AD83-3CC0-43FA-A6A1-10A21E1E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95CF7-93D7-4CE7-A658-DA848C15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F4DDB-70BE-4EE7-A267-EFAEAA83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C37A9-63FF-4997-92BF-512A12AB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4B718-9E14-4EA5-A6D6-046F5862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D62F-835C-4A86-B0FE-2A79EC2F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CDFE4-EE44-49E8-9FDE-98D6195F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121BB-790D-43A9-9956-A8C9CD22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10371-6F16-43D5-9C97-AC3B1825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BD9EA-BFB3-4890-B617-2F427C9D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E4ED3-A960-4F1B-BC7C-05681535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E6A5A-6E0E-4A47-9BB8-D616583A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29B73-AFB5-4B8E-BD58-41516BC0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D9220-CDCF-41BB-86D0-256C87CE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65206-6CDD-4C5C-A3C4-D26EC58B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32CCD-356B-4A30-8A3A-55104793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23BA-D165-45E9-BA6A-FB23B7D8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5A547-9F07-4895-A6D1-CF77B9FD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836E2-CF88-4E7B-AF6F-AA831242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75460-35A6-40CB-BDD1-976D9F39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753EB-A539-4A08-879D-4E483D55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E75A8-D28A-4FFE-B3E6-8F81C69F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16F03-54EF-438E-8E40-4D13BF08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76337-AC3A-4CF6-B0D1-5B47E923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62C53-E7DE-433A-89F3-F9DD0730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90645-4CC8-4699-BE88-945EB7EF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54CCA-25C0-4330-B7A3-758EC7BE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E01A-D9B3-4039-8885-27CDC679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4EB82-9BCE-4059-AE20-FE7F0D3C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A13D8-F6A1-4714-9F2C-63953D95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772BE-9D26-4510-9502-1396461B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BFD1C-A915-4B70-B3DC-8E9BFB89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9FE8D-2AA8-4208-A362-3D0CC147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4396C-E920-409A-BCAD-C6E9127E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6AFD6-0FD2-4BB4-BAFC-7484EB03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49A77-00E6-47BD-BB09-B6BAAF88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D3D20-F2AB-415C-B88D-804A28DE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A124A-D82A-448D-9224-C1F9780B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05EF-7D6C-48E2-A99E-98CBC0B6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3B07E-4D45-468D-8A02-5890DCB0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337A0-CCCC-4026-AF08-871B524F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2DA18-4CA0-4F92-B19C-DE72F7D8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2535B-9357-4F9B-BABD-1DE1EFB2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A88EF-B6FC-493F-95CC-59FF99D5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71320-8F7C-4FA6-9CCF-0051C542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FEE23-EFBA-461C-B3CF-358F5872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82266-5DF9-46D6-A49D-7621C01C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431E4-57EB-4146-9D46-8E99ADC2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14621-A8A8-4E2E-A429-49A2B7CF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506D-71E0-42F3-87CA-064F601B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1EF88-1D76-4A2E-81B3-EEFD2AF9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519BD-13DC-469D-AEF0-DEED26FC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13D32-6B5E-497B-8244-985675B0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AB35A-265C-469D-9411-ADB8A203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F780A-5634-473A-9DD0-9CB26300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E4E52-710A-4F05-884F-25E7E441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8314A-74AA-42CE-8E1B-4B8D6EB1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CDD35-20FA-47D9-A3C3-6ECACF57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ED74E-1E61-438D-9F6E-72F32907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3AFB2-24D9-44E8-BAEE-6E8A9F90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745-F04E-4D08-8C38-44D65325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D6528-83FD-4EFA-AE7B-B0CF6002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872A7-51F6-4C1A-A198-C6E2EBCF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36899-9B2A-4859-B1FF-FE6254A4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10EFF-DA5C-48A1-9D21-4ADA8C17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DF8C9-83A4-43DA-AF8F-E5E2C133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5840B-B31B-49F9-8119-32AFAB6B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7610E-45B4-4873-8DAE-92ADCCD0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3AECD-876F-4727-A874-9BD0C071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500F7-87FE-4A2E-96A4-00D8F850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25565-C228-4A4A-8711-1BCBD8ED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D245-4861-4496-ADF4-60F3EEDFC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E2AA-4A7A-4169-9105-D3E9488D2E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3258-4BF0-4ADF-B378-BD292D058C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35CE-464C-4848-9171-B5B9B9E350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B0A6-B93F-49FF-A152-3114F66B27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D07E-A4B4-419D-A660-FEA7E14117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1330-AB8A-49D9-9965-7A5B18FD04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C4EB-C169-48ED-85E1-CFC2ADB0B7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5FA0-049F-4AE1-9DC5-B0F34591E3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2866-0A62-4AA1-8A82-71BA7CEBA5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D261-8EE6-4490-AD20-677EA43122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317B-C478-4945-8112-3428C01761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D554-21B2-4939-A27E-F22895A3E6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3323-8F0F-452E-BD66-86978E6D69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3007-BB1A-4AED-B865-C33BA9037E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E145-9FF2-4470-815A-8FA59B9962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9A3F-DE1C-4C8F-A6ED-294E63645A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2D44-2D20-4AC7-B922-F84F0D097E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A43B-4C43-465D-B10A-B1F99CA1F7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C1CA-E195-4199-80A9-BCEB3CF6D0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4E61-A1F6-489A-81E1-277E9C808A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3F6E-BA97-4C31-8B2B-21E3040AAD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D654-3721-4625-BD9F-88B95E645F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B5D3-F492-4778-8C9B-37662FB09B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3378-70C8-4D38-8207-9626DA4676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3E95-4F66-430C-8518-FD3E17838C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DA92-872F-413F-9519-534239A563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7F52-F38B-4C2B-BB98-F66C9EB33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457B-5AF8-4E96-94E3-7C9A12C909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EEBE-C758-4852-97E3-973C38B451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E4E8-2DD7-4034-8018-9820E9F01A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CB4B-AE3A-4D1A-9B5E-26BC18C86A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6611-88BE-4ABA-A36D-34D2A640BE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E3C8-0E20-4627-B38C-95D3184D16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B786-DDDB-4AB9-88BF-273468CA74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4DA1-EB60-4FE9-BEC5-5A7E603828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E2AD-B609-4020-B661-2819AC9846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662F-0D30-4303-BAF7-E0D2CDA894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A1FE-36C6-4ADF-BCB1-060E866F71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1504-6928-4093-A486-F3845A9611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071720" y="2189160"/>
            <a:ext cx="7000560" cy="60012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3181320" y="3527280"/>
            <a:ext cx="278136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" descr=""/>
          <p:cNvPicPr/>
          <p:nvPr/>
        </p:nvPicPr>
        <p:blipFill>
          <a:blip r:embed="rId2"/>
          <a:stretch/>
        </p:blipFill>
        <p:spPr>
          <a:xfrm>
            <a:off x="114480" y="1000080"/>
            <a:ext cx="8915400" cy="485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116000" y="162864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1187280" y="2708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1116000" y="3789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1116000" y="486900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295200" y="2090880"/>
            <a:ext cx="8553600" cy="26762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332000" y="2708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332000" y="3284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1403280" y="37893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1360440" y="429264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128520" y="1295280"/>
            <a:ext cx="8885160" cy="42674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1071720" y="19162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1116000" y="351468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571680" y="2652840"/>
            <a:ext cx="8001000" cy="15523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884160" y="270828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2" name="图片 1" descr=""/>
          <p:cNvPicPr/>
          <p:nvPr/>
        </p:nvPicPr>
        <p:blipFill>
          <a:blip r:embed="rId1"/>
          <a:stretch/>
        </p:blipFill>
        <p:spPr>
          <a:xfrm>
            <a:off x="95400" y="1724040"/>
            <a:ext cx="8953200" cy="3409920"/>
          </a:xfrm>
          <a:prstGeom prst="rect">
            <a:avLst/>
          </a:prstGeom>
          <a:ln w="0">
            <a:noFill/>
          </a:ln>
        </p:spPr>
      </p:pic>
      <p:pic>
        <p:nvPicPr>
          <p:cNvPr id="1053" name="图片 8194" descr=""/>
          <p:cNvPicPr/>
          <p:nvPr/>
        </p:nvPicPr>
        <p:blipFill>
          <a:blip r:embed="rId2"/>
          <a:stretch/>
        </p:blipFill>
        <p:spPr>
          <a:xfrm>
            <a:off x="4500720" y="3971880"/>
            <a:ext cx="24476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5:29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